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gif" ContentType="image/gi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EBC-8112-4C93-A22D-41679A02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D18-BDB3-4A10-87D8-ED6F589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6A3-F65C-424A-9B5B-4CD53398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24D-9B9B-418B-B39E-32C83113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CAA76-DB14-4A28-BE9F-4EED6A2E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1864D-6EF8-48C8-8C05-8D7D889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B810-47A3-4F37-9268-6ED63B6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B39AA-0068-49C7-B37C-5E6492D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5DEE-A941-4FC6-9EEE-4BFDF4B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4157-4518-4093-9BC9-2B93B9E9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4EAF-1809-47E8-B68E-5E7E70E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918-037B-4AA8-B851-268CB1C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B6FCB-5505-43F3-ACC1-D5583B4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6D2D4-FDA9-4766-A3F4-5F588C6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D424A-DE87-44E6-A632-643FD58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46DFB-582A-4070-8C67-C978C8DA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45C9D-BF94-4B30-80BA-66EF52A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91D-0D67-4A77-BE54-CD4D5CB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86D-E1E1-49BC-B607-9F76F16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8F0-67C2-49F1-95A2-C208226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D27-AAE0-49BC-8F17-05D51ADE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812-F2C5-4CD7-9440-EF65C1A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EFC-9606-450F-B211-3E37E4B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944-8178-40A2-A2B4-BCEB0B63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AED-2317-421F-8F0C-AC70961494E0}" type="slidenum">
              <a:rPr b="0" lang="pt-P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9D9-3788-490A-AA6F-CDA9963C2FD1}" type="slidenum">
              <a:rPr b="0" lang="pt-P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1079280"/>
            <a:ext cx="82296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e3e3ff"/>
                </a:solidFill>
                <a:latin typeface="Arial"/>
              </a:rPr>
              <a:t>Os sólidos geométrico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3" name="Object 8"/>
          <p:cNvGraphicFramePr/>
          <p:nvPr/>
        </p:nvGraphicFramePr>
        <p:xfrm>
          <a:off x="1692360" y="3068640"/>
          <a:ext cx="22050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22050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9"/>
          <p:cNvGraphicFramePr/>
          <p:nvPr/>
        </p:nvGraphicFramePr>
        <p:xfrm>
          <a:off x="1714680" y="4130640"/>
          <a:ext cx="111600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130640"/>
                    <a:ext cx="11160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0"/>
          <p:cNvGraphicFramePr/>
          <p:nvPr/>
        </p:nvGraphicFramePr>
        <p:xfrm>
          <a:off x="2771640" y="3068640"/>
          <a:ext cx="1116000" cy="21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068640"/>
                    <a:ext cx="11160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1"/>
          <p:cNvGraphicFramePr/>
          <p:nvPr/>
        </p:nvGraphicFramePr>
        <p:xfrm>
          <a:off x="5040360" y="3429000"/>
          <a:ext cx="1077840" cy="4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0360" y="3429000"/>
                    <a:ext cx="1077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2"/>
          <p:cNvGraphicFramePr/>
          <p:nvPr/>
        </p:nvGraphicFramePr>
        <p:xfrm>
          <a:off x="5256360" y="3860640"/>
          <a:ext cx="650880" cy="111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6360" y="3860640"/>
                    <a:ext cx="6508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"/>
          <p:cNvGraphicFramePr/>
          <p:nvPr/>
        </p:nvGraphicFramePr>
        <p:xfrm>
          <a:off x="5076720" y="3610080"/>
          <a:ext cx="225360" cy="13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3610080"/>
                    <a:ext cx="22536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4"/>
          <p:cNvGraphicFramePr/>
          <p:nvPr/>
        </p:nvGraphicFramePr>
        <p:xfrm>
          <a:off x="5869080" y="3573360"/>
          <a:ext cx="236520" cy="13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9080" y="3573360"/>
                    <a:ext cx="2365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6948360" y="4184640"/>
          <a:ext cx="1487520" cy="14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4184640"/>
                    <a:ext cx="14875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1"/>
          <p:cNvGraphicFramePr/>
          <p:nvPr/>
        </p:nvGraphicFramePr>
        <p:xfrm>
          <a:off x="6659640" y="4184640"/>
          <a:ext cx="1092240" cy="144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4184640"/>
                    <a:ext cx="109224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2"/>
          <p:cNvGraphicFramePr/>
          <p:nvPr/>
        </p:nvGraphicFramePr>
        <p:xfrm>
          <a:off x="6804000" y="2313000"/>
          <a:ext cx="946080" cy="946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2313000"/>
                    <a:ext cx="9460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23"/>
          <p:cNvSpPr/>
          <p:nvPr/>
        </p:nvSpPr>
        <p:spPr>
          <a:xfrm>
            <a:off x="358920" y="2241720"/>
            <a:ext cx="792000" cy="161892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4" descr="j0236249"/>
          <p:cNvPicPr/>
          <p:nvPr/>
        </p:nvPicPr>
        <p:blipFill>
          <a:blip r:embed="rId21"/>
          <a:stretch/>
        </p:blipFill>
        <p:spPr>
          <a:xfrm>
            <a:off x="6877080" y="1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j0236249"/>
          <p:cNvPicPr/>
          <p:nvPr/>
        </p:nvPicPr>
        <p:blipFill>
          <a:blip r:embed="rId22"/>
          <a:stretch/>
        </p:blipFill>
        <p:spPr>
          <a:xfrm>
            <a:off x="6804000" y="90792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j0236249"/>
          <p:cNvPicPr/>
          <p:nvPr/>
        </p:nvPicPr>
        <p:blipFill>
          <a:blip r:embed="rId23"/>
          <a:stretch/>
        </p:blipFill>
        <p:spPr>
          <a:xfrm>
            <a:off x="7667640" y="10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j0236249"/>
          <p:cNvPicPr/>
          <p:nvPr/>
        </p:nvPicPr>
        <p:blipFill>
          <a:blip r:embed="rId24"/>
          <a:stretch/>
        </p:blipFill>
        <p:spPr>
          <a:xfrm>
            <a:off x="7848720" y="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j0236249"/>
          <p:cNvPicPr/>
          <p:nvPr/>
        </p:nvPicPr>
        <p:blipFill>
          <a:blip r:embed="rId25"/>
          <a:stretch/>
        </p:blipFill>
        <p:spPr>
          <a:xfrm>
            <a:off x="8381880" y="1268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9" descr="j0236249"/>
          <p:cNvPicPr/>
          <p:nvPr/>
        </p:nvPicPr>
        <p:blipFill>
          <a:blip r:embed="rId26"/>
          <a:stretch/>
        </p:blipFill>
        <p:spPr>
          <a:xfrm>
            <a:off x="5977080" y="657360"/>
            <a:ext cx="761760" cy="390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6360" y="6373800"/>
            <a:ext cx="690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3e3ff"/>
                </a:solidFill>
                <a:latin typeface="Arial"/>
              </a:rPr>
              <a:t>EB 2,3 Comandante Conceição e Silva – Cova da Pieda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2084 0.63611 C 0.02778 0.62269 0.0349 0.6081 0.04184 0.58935 C 0.06077 0.53611 0.0658 0.48403 0.05191 0.47616 C 0.03785 0.46667 0.01077 0.50417 -0.00816 0.55741 C -0.01823 0.58542 -0.02413 0.61204 -0.02621 0.63218 C -0.02916 0.64815 -0.03021 0.66412 -0.03021 0.68287 C -0.03021 0.74282 -0.01719 0.79213 -0.00208 0.79213 C 0.01285 0.79213 0.02587 0.74282 0.02587 0.68287 C 0.02587 0.65486 0.02292 0.62801 0.01788 0.60949 C 0.0158 0.59352 0.01077 0.57616 0.00486 0.5588 C -0.0151 0.50417 -0.04219 0.46667 -0.05625 0.47616 C -0.07014 0.48542 -0.0651 0.53611 -0.04514 0.59074 C -0.03715 0.6162 -0.02621 0.6375 -0.0151 0.65208 C -0.00712 0.66551 0.00191 0.67755 0.01389 0.68935 C 0.04983 0.72801 0.08577 0.74537 0.09584 0.7294 C 0.10486 0.71343 0.0849 0.66944 0.04879 0.63218 C 0.03386 0.6162 0.01788 0.60417 0.00486 0.59607 C -0.00712 0.58819 -0.02222 0.58148 -0.03819 0.57755 C -0.08212 0.56412 -0.12014 0.56806 -0.12309 0.58935 C -0.12708 0.60949 -0.09409 0.63611 -0.05017 0.64954 C -0.03021 0.65486 -0.01111 0.65741 0.00382 0.65602 C 0.01684 0.65602 0.03091 0.65347 0.04584 0.64954 C 0.08976 0.63611 0.12292 0.6081 0.11875 0.58819 C 0.1158 0.56806 0.07778 0.56273 0.03386 0.57616 C 0.01285 0.58287 -0.00625 0.59213 -0.01909 0.60278 C -0.03021 0.61088 -0.04114 0.62014 -0.05312 0.63218 C -0.08819 0.67083 -0.1092 0.71343 -0.09913 0.7294 C -0.0901 0.74537 -0.05312 0.72801 -0.01823 0.69074 C -0.00121 0.67222 0.01285 0.65347 0.02084 0.63611 Z">
                                      <p:cBhvr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2084 0.63611 C 0.02778 0.62269 0.0349 0.6081 0.04184 0.58935 C 0.06077 0.53611 0.0658 0.48403 0.05191 0.47616 C 0.03785 0.46667 0.01077 0.50417 -0.00816 0.55741 C -0.01823 0.58542 -0.02413 0.61204 -0.02621 0.63218 C -0.02916 0.64815 -0.03021 0.66412 -0.03021 0.68287 C -0.03021 0.74282 -0.01719 0.79213 -0.00208 0.79213 C 0.01285 0.79213 0.02587 0.74282 0.02587 0.68287 C 0.02587 0.65486 0.02292 0.62801 0.01788 0.60949 C 0.0158 0.59352 0.01077 0.57616 0.00486 0.5588 C -0.0151 0.50417 -0.04219 0.46667 -0.05625 0.47616 C -0.07014 0.48542 -0.0651 0.53611 -0.04514 0.59074 C -0.03715 0.6162 -0.02621 0.6375 -0.0151 0.65208 C -0.00712 0.66551 0.00191 0.67755 0.01389 0.68935 C 0.04983 0.72801 0.08577 0.74537 0.09584 0.7294 C 0.10486 0.71343 0.0849 0.66944 0.04879 0.63218 C 0.03386 0.6162 0.01788 0.60417 0.00486 0.59607 C -0.00712 0.58819 -0.02222 0.58148 -0.03819 0.57755 C -0.08212 0.56412 -0.12014 0.56806 -0.12309 0.58935 C -0.12708 0.60949 -0.09409 0.63611 -0.05017 0.64954 C -0.03021 0.65486 -0.01111 0.65741 0.00382 0.65602 C 0.01684 0.65602 0.03091 0.65347 0.04584 0.64954 C 0.08976 0.63611 0.12292 0.6081 0.11875 0.58819 C 0.1158 0.56806 0.07778 0.56273 0.03386 0.57616 C 0.01285 0.58287 -0.00625 0.59213 -0.01909 0.60278 C -0.03021 0.61088 -0.04114 0.62014 -0.05312 0.63218 C -0.08819 0.67083 -0.1092 0.71343 -0.09913 0.7294 C -0.0901 0.74537 -0.05312 0.72801 -0.01823 0.69074 C -0.00121 0.67222 0.01285 0.65347 0.02084 0.63611 Z">
                                      <p:cBhvr>
                                        <p:cTn id="11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3e3ff"/>
                </a:solidFill>
                <a:latin typeface="Arial"/>
              </a:rPr>
              <a:t>Sólidos poliedros e não poliedr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olied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Não polied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1763640" y="3716280"/>
          <a:ext cx="16686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716280"/>
                    <a:ext cx="16686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AutoShape 6"/>
          <p:cNvSpPr/>
          <p:nvPr/>
        </p:nvSpPr>
        <p:spPr>
          <a:xfrm>
            <a:off x="539640" y="2205000"/>
            <a:ext cx="1152720" cy="11527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11280" y="3500280"/>
            <a:ext cx="792000" cy="136872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24000" y="49417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mos formados ap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or superfícies pl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13"/>
          <p:cNvGraphicFramePr/>
          <p:nvPr/>
        </p:nvGraphicFramePr>
        <p:xfrm>
          <a:off x="7308720" y="1844640"/>
          <a:ext cx="9464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844640"/>
                    <a:ext cx="946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5292720" y="2205000"/>
          <a:ext cx="1160640" cy="11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205000"/>
                    <a:ext cx="1160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AutoShape 15"/>
          <p:cNvSpPr/>
          <p:nvPr/>
        </p:nvSpPr>
        <p:spPr>
          <a:xfrm>
            <a:off x="6516720" y="2852640"/>
            <a:ext cx="793800" cy="144000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4211640" y="4437000"/>
            <a:ext cx="4753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mos formados por superfícies planas e curvas ou apena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uperfícies cur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22"/>
          <p:cNvGraphicFramePr/>
          <p:nvPr/>
        </p:nvGraphicFramePr>
        <p:xfrm>
          <a:off x="2286000" y="2100240"/>
          <a:ext cx="1146240" cy="15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100240"/>
                    <a:ext cx="114624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Picture 25" descr="j0236249"/>
          <p:cNvPicPr/>
          <p:nvPr/>
        </p:nvPicPr>
        <p:blipFill>
          <a:blip r:embed="rId9"/>
          <a:stretch/>
        </p:blipFill>
        <p:spPr>
          <a:xfrm>
            <a:off x="2951280" y="1268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6" descr="j0236249"/>
          <p:cNvPicPr/>
          <p:nvPr/>
        </p:nvPicPr>
        <p:blipFill>
          <a:blip r:embed="rId10"/>
          <a:stretch/>
        </p:blipFill>
        <p:spPr>
          <a:xfrm>
            <a:off x="8064360" y="18900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10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15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7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5364000" y="1197000"/>
          <a:ext cx="2005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197000"/>
                    <a:ext cx="2005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8"/>
          <p:cNvSpPr/>
          <p:nvPr/>
        </p:nvSpPr>
        <p:spPr>
          <a:xfrm>
            <a:off x="4859280" y="5084640"/>
            <a:ext cx="39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pent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0" descr="j0236249"/>
          <p:cNvPicPr/>
          <p:nvPr/>
        </p:nvPicPr>
        <p:blipFill>
          <a:blip r:embed="rId3"/>
          <a:stretch/>
        </p:blipFill>
        <p:spPr>
          <a:xfrm>
            <a:off x="7128000" y="112536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12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18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8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6"/>
          <p:cNvGraphicFramePr/>
          <p:nvPr/>
        </p:nvGraphicFramePr>
        <p:xfrm>
          <a:off x="5724360" y="2133720"/>
          <a:ext cx="158436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133720"/>
                    <a:ext cx="158436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8"/>
          <p:cNvSpPr/>
          <p:nvPr/>
        </p:nvSpPr>
        <p:spPr>
          <a:xfrm>
            <a:off x="4284720" y="4941720"/>
            <a:ext cx="39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hex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3" descr="j0236249"/>
          <p:cNvPicPr/>
          <p:nvPr/>
        </p:nvPicPr>
        <p:blipFill>
          <a:blip r:embed="rId3"/>
          <a:stretch/>
        </p:blipFill>
        <p:spPr>
          <a:xfrm flipH="1">
            <a:off x="3382560" y="3321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j0236249"/>
          <p:cNvPicPr/>
          <p:nvPr/>
        </p:nvPicPr>
        <p:blipFill>
          <a:blip r:embed="rId4"/>
          <a:stretch/>
        </p:blipFill>
        <p:spPr>
          <a:xfrm flipH="1">
            <a:off x="3743280" y="3753000"/>
            <a:ext cx="936720" cy="479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j0236249"/>
          <p:cNvPicPr/>
          <p:nvPr/>
        </p:nvPicPr>
        <p:blipFill>
          <a:blip r:embed="rId5"/>
          <a:stretch/>
        </p:blipFill>
        <p:spPr>
          <a:xfrm flipH="1">
            <a:off x="4211640" y="4257720"/>
            <a:ext cx="1116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8"/>
          <p:cNvGraphicFramePr/>
          <p:nvPr/>
        </p:nvGraphicFramePr>
        <p:xfrm>
          <a:off x="6012000" y="1557360"/>
          <a:ext cx="15699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557360"/>
                    <a:ext cx="15699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9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6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9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5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5508720" y="4724280"/>
            <a:ext cx="331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trian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2" descr="j0236249"/>
          <p:cNvPicPr/>
          <p:nvPr/>
        </p:nvPicPr>
        <p:blipFill>
          <a:blip r:embed="rId3"/>
          <a:stretch/>
        </p:blipFill>
        <p:spPr>
          <a:xfrm flipH="1">
            <a:off x="863280" y="584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j0236249"/>
          <p:cNvPicPr/>
          <p:nvPr/>
        </p:nvPicPr>
        <p:blipFill>
          <a:blip r:embed="rId4"/>
          <a:stretch/>
        </p:blipFill>
        <p:spPr>
          <a:xfrm flipH="1">
            <a:off x="3850920" y="1557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j0236249"/>
          <p:cNvPicPr/>
          <p:nvPr/>
        </p:nvPicPr>
        <p:blipFill>
          <a:blip r:embed="rId5"/>
          <a:stretch/>
        </p:blipFill>
        <p:spPr>
          <a:xfrm flipH="1">
            <a:off x="7236000" y="58428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j0236249"/>
          <p:cNvPicPr/>
          <p:nvPr/>
        </p:nvPicPr>
        <p:blipFill>
          <a:blip r:embed="rId1"/>
          <a:stretch/>
        </p:blipFill>
        <p:spPr>
          <a:xfrm>
            <a:off x="6696000" y="1773360"/>
            <a:ext cx="762120" cy="390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66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66"/>
                </a:solidFill>
                <a:latin typeface="Arial"/>
              </a:rPr>
              <a:t>Sou formado, apenas, por uma superfície cu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6"/>
          <p:cNvGraphicFramePr/>
          <p:nvPr/>
        </p:nvGraphicFramePr>
        <p:xfrm>
          <a:off x="5508720" y="1989000"/>
          <a:ext cx="2560680" cy="256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1989000"/>
                    <a:ext cx="25606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1"/>
          <p:cNvSpPr/>
          <p:nvPr/>
        </p:nvSpPr>
        <p:spPr>
          <a:xfrm>
            <a:off x="6012000" y="479736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sf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13" descr="j0236249"/>
          <p:cNvPicPr/>
          <p:nvPr/>
        </p:nvPicPr>
        <p:blipFill>
          <a:blip r:embed="rId4"/>
          <a:stretch/>
        </p:blipFill>
        <p:spPr>
          <a:xfrm>
            <a:off x="1187280" y="3789360"/>
            <a:ext cx="1409760" cy="722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j0236249"/>
          <p:cNvPicPr/>
          <p:nvPr/>
        </p:nvPicPr>
        <p:blipFill>
          <a:blip r:embed="rId5"/>
          <a:stretch/>
        </p:blipFill>
        <p:spPr>
          <a:xfrm>
            <a:off x="1295280" y="549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j0236249"/>
          <p:cNvPicPr/>
          <p:nvPr/>
        </p:nvPicPr>
        <p:blipFill>
          <a:blip r:embed="rId6"/>
          <a:stretch/>
        </p:blipFill>
        <p:spPr>
          <a:xfrm>
            <a:off x="7704000" y="512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6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10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6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Object 6"/>
          <p:cNvGraphicFramePr/>
          <p:nvPr/>
        </p:nvGraphicFramePr>
        <p:xfrm>
          <a:off x="5508720" y="2060640"/>
          <a:ext cx="200016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60640"/>
                    <a:ext cx="20001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8"/>
          <p:cNvSpPr/>
          <p:nvPr/>
        </p:nvSpPr>
        <p:spPr>
          <a:xfrm>
            <a:off x="5076720" y="5229360"/>
            <a:ext cx="3672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irâmide pent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9" descr="j0236249"/>
          <p:cNvPicPr/>
          <p:nvPr/>
        </p:nvPicPr>
        <p:blipFill>
          <a:blip r:embed="rId3"/>
          <a:stretch/>
        </p:blipFill>
        <p:spPr>
          <a:xfrm>
            <a:off x="7885080" y="40464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j0236249"/>
          <p:cNvPicPr/>
          <p:nvPr/>
        </p:nvPicPr>
        <p:blipFill>
          <a:blip r:embed="rId4"/>
          <a:stretch/>
        </p:blipFill>
        <p:spPr>
          <a:xfrm>
            <a:off x="6624720" y="944640"/>
            <a:ext cx="1338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9" descr="j0236249"/>
          <p:cNvPicPr/>
          <p:nvPr/>
        </p:nvPicPr>
        <p:blipFill>
          <a:blip r:embed="rId1"/>
          <a:stretch/>
        </p:blipFill>
        <p:spPr>
          <a:xfrm>
            <a:off x="7775640" y="4508640"/>
            <a:ext cx="761760" cy="3902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Um vér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Um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ão tenho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6"/>
          <p:cNvGraphicFramePr/>
          <p:nvPr/>
        </p:nvGraphicFramePr>
        <p:xfrm>
          <a:off x="4896000" y="1376280"/>
          <a:ext cx="3325680" cy="26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96000" y="1376280"/>
                    <a:ext cx="332568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8"/>
          <p:cNvSpPr/>
          <p:nvPr/>
        </p:nvSpPr>
        <p:spPr>
          <a:xfrm>
            <a:off x="5796000" y="4581360"/>
            <a:ext cx="151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Duas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Uma superfície cu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5867280" y="2060640"/>
            <a:ext cx="1584360" cy="237636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643280" y="4941720"/>
            <a:ext cx="3457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ilin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8" descr="j0236249"/>
          <p:cNvPicPr/>
          <p:nvPr/>
        </p:nvPicPr>
        <p:blipFill>
          <a:blip r:embed="rId1"/>
          <a:stretch/>
        </p:blipFill>
        <p:spPr>
          <a:xfrm>
            <a:off x="934920" y="65736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j0236249"/>
          <p:cNvPicPr/>
          <p:nvPr/>
        </p:nvPicPr>
        <p:blipFill>
          <a:blip r:embed="rId2"/>
          <a:stretch/>
        </p:blipFill>
        <p:spPr>
          <a:xfrm>
            <a:off x="1727280" y="376200"/>
            <a:ext cx="4683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9900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611280" y="2708280"/>
          <a:ext cx="40384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8280"/>
                    <a:ext cx="40384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6"/>
          <p:cNvSpPr/>
          <p:nvPr/>
        </p:nvSpPr>
        <p:spPr>
          <a:xfrm>
            <a:off x="5292720" y="321300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u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7" descr="j0236249"/>
          <p:cNvPicPr/>
          <p:nvPr/>
        </p:nvPicPr>
        <p:blipFill>
          <a:blip r:embed="rId3"/>
          <a:stretch/>
        </p:blipFill>
        <p:spPr>
          <a:xfrm>
            <a:off x="7343640" y="5842080"/>
            <a:ext cx="162576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2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66ff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755640" y="2421000"/>
          <a:ext cx="40384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40384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8"/>
          <p:cNvSpPr/>
          <p:nvPr/>
        </p:nvSpPr>
        <p:spPr>
          <a:xfrm>
            <a:off x="6012000" y="3500280"/>
            <a:ext cx="17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u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j0236249"/>
          <p:cNvPicPr/>
          <p:nvPr/>
        </p:nvPicPr>
        <p:blipFill>
          <a:blip r:embed="rId3"/>
          <a:stretch/>
        </p:blipFill>
        <p:spPr>
          <a:xfrm>
            <a:off x="1979640" y="278136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9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09"/>
          <p:cNvSpPr/>
          <p:nvPr/>
        </p:nvSpPr>
        <p:spPr>
          <a:xfrm>
            <a:off x="1582560" y="2349360"/>
            <a:ext cx="32943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11"/>
          <p:cNvSpPr/>
          <p:nvPr/>
        </p:nvSpPr>
        <p:spPr>
          <a:xfrm>
            <a:off x="1601640" y="4540320"/>
            <a:ext cx="3248280" cy="1076400"/>
          </a:xfrm>
          <a:custGeom>
            <a:avLst/>
            <a:gdLst>
              <a:gd name="textAreaLeft" fmla="*/ 0 w 3248280"/>
              <a:gd name="textAreaRight" fmla="*/ 3248640 w 324828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341" h="113">
                <a:moveTo>
                  <a:pt x="0" y="113"/>
                </a:moveTo>
                <a:lnTo>
                  <a:pt x="113" y="0"/>
                </a:lnTo>
                <a:lnTo>
                  <a:pt x="341" y="0"/>
                </a:lnTo>
                <a:lnTo>
                  <a:pt x="227" y="113"/>
                </a:lnTo>
                <a:lnTo>
                  <a:pt x="0" y="113"/>
                </a:lnTo>
                <a:close/>
              </a:path>
            </a:pathLst>
          </a:custGeom>
          <a:solidFill>
            <a:srgbClr val="6ac335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12"/>
          <p:cNvSpPr/>
          <p:nvPr/>
        </p:nvSpPr>
        <p:spPr>
          <a:xfrm>
            <a:off x="1601640" y="2368440"/>
            <a:ext cx="1086120" cy="32482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3248280"/>
              <a:gd name="textAreaBottom" fmla="*/ 3248640 h 3248280"/>
            </a:gdLst>
            <a:ahLst/>
            <a:rect l="textAreaLeft" t="textAreaTop" r="textAreaRight" b="textAreaBottom"/>
            <a:pathLst>
              <a:path w="114" h="341">
                <a:moveTo>
                  <a:pt x="0" y="114"/>
                </a:moveTo>
                <a:lnTo>
                  <a:pt x="114" y="0"/>
                </a:lnTo>
                <a:lnTo>
                  <a:pt x="114" y="228"/>
                </a:lnTo>
                <a:lnTo>
                  <a:pt x="0" y="341"/>
                </a:lnTo>
                <a:lnTo>
                  <a:pt x="0" y="114"/>
                </a:lnTo>
                <a:close/>
              </a:path>
            </a:pathLst>
          </a:custGeom>
          <a:solidFill>
            <a:srgbClr val="f480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13"/>
          <p:cNvSpPr/>
          <p:nvPr/>
        </p:nvSpPr>
        <p:spPr>
          <a:xfrm>
            <a:off x="2678040" y="2368440"/>
            <a:ext cx="2171880" cy="2171880"/>
          </a:xfrm>
          <a:prstGeom prst="rect">
            <a:avLst/>
          </a:prstGeom>
          <a:solidFill>
            <a:srgbClr val="fdfa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14"/>
          <p:cNvSpPr/>
          <p:nvPr/>
        </p:nvSpPr>
        <p:spPr>
          <a:xfrm>
            <a:off x="1619280" y="3429000"/>
            <a:ext cx="2171520" cy="2171880"/>
          </a:xfrm>
          <a:prstGeom prst="rect">
            <a:avLst/>
          </a:prstGeom>
          <a:solidFill>
            <a:srgbClr val="fa9d99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15"/>
          <p:cNvSpPr/>
          <p:nvPr/>
        </p:nvSpPr>
        <p:spPr>
          <a:xfrm>
            <a:off x="3773520" y="2368440"/>
            <a:ext cx="1076400" cy="32482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3248280"/>
              <a:gd name="textAreaBottom" fmla="*/ 3248640 h 3248280"/>
            </a:gdLst>
            <a:ahLst/>
            <a:rect l="textAreaLeft" t="textAreaTop" r="textAreaRight" b="textAreaBottom"/>
            <a:pathLst>
              <a:path w="113" h="341">
                <a:moveTo>
                  <a:pt x="0" y="114"/>
                </a:moveTo>
                <a:lnTo>
                  <a:pt x="113" y="0"/>
                </a:lnTo>
                <a:lnTo>
                  <a:pt x="113" y="228"/>
                </a:lnTo>
                <a:lnTo>
                  <a:pt x="0" y="341"/>
                </a:lnTo>
                <a:lnTo>
                  <a:pt x="0" y="114"/>
                </a:lnTo>
                <a:close/>
              </a:path>
            </a:pathLst>
          </a:custGeom>
          <a:solidFill>
            <a:srgbClr val="eb3d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1601640" y="2368440"/>
            <a:ext cx="3248280" cy="1086120"/>
          </a:xfrm>
          <a:custGeom>
            <a:avLst/>
            <a:gdLst>
              <a:gd name="textAreaLeft" fmla="*/ 0 w 3248280"/>
              <a:gd name="textAreaRight" fmla="*/ 3248640 w 3248280"/>
              <a:gd name="textAreaTop" fmla="*/ 0 h 1086120"/>
              <a:gd name="textAreaBottom" fmla="*/ 1086480 h 1086120"/>
            </a:gdLst>
            <a:ahLst/>
            <a:rect l="textAreaLeft" t="textAreaTop" r="textAreaRight" b="textAreaBottom"/>
            <a:pathLst>
              <a:path w="341" h="114">
                <a:moveTo>
                  <a:pt x="0" y="114"/>
                </a:moveTo>
                <a:lnTo>
                  <a:pt x="113" y="0"/>
                </a:lnTo>
                <a:lnTo>
                  <a:pt x="341" y="0"/>
                </a:lnTo>
                <a:lnTo>
                  <a:pt x="227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60bff3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17"/>
          <p:cNvSpPr/>
          <p:nvPr/>
        </p:nvSpPr>
        <p:spPr>
          <a:xfrm>
            <a:off x="466560" y="26028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ff00"/>
                </a:solidFill>
                <a:latin typeface="Arial"/>
              </a:rPr>
              <a:t>Um sólido geométrico é composto p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8"/>
          <p:cNvSpPr/>
          <p:nvPr/>
        </p:nvSpPr>
        <p:spPr>
          <a:xfrm>
            <a:off x="6372360" y="1413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cc"/>
                </a:solidFill>
                <a:latin typeface="Arial"/>
              </a:rPr>
              <a:t>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21"/>
          <p:cNvSpPr/>
          <p:nvPr/>
        </p:nvSpPr>
        <p:spPr>
          <a:xfrm flipH="1">
            <a:off x="2626920" y="4545000"/>
            <a:ext cx="2197080" cy="3636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3"/>
          <p:cNvSpPr/>
          <p:nvPr/>
        </p:nvSpPr>
        <p:spPr>
          <a:xfrm flipV="1">
            <a:off x="1619280" y="4581000"/>
            <a:ext cx="1008000" cy="100836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22"/>
          <p:cNvSpPr/>
          <p:nvPr/>
        </p:nvSpPr>
        <p:spPr>
          <a:xfrm>
            <a:off x="2664000" y="2313000"/>
            <a:ext cx="0" cy="226692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1"/>
          <p:cNvSpPr/>
          <p:nvPr/>
        </p:nvSpPr>
        <p:spPr>
          <a:xfrm>
            <a:off x="6336720" y="2457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Arial"/>
              </a:rPr>
              <a:t>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40"/>
          <p:cNvSpPr/>
          <p:nvPr/>
        </p:nvSpPr>
        <p:spPr>
          <a:xfrm>
            <a:off x="1619280" y="3465360"/>
            <a:ext cx="21607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42"/>
          <p:cNvSpPr/>
          <p:nvPr/>
        </p:nvSpPr>
        <p:spPr>
          <a:xfrm flipH="1">
            <a:off x="2664000" y="2349360"/>
            <a:ext cx="21952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3"/>
          <p:cNvSpPr/>
          <p:nvPr/>
        </p:nvSpPr>
        <p:spPr>
          <a:xfrm flipH="1">
            <a:off x="1584000" y="2349360"/>
            <a:ext cx="1079640" cy="11160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44"/>
          <p:cNvSpPr/>
          <p:nvPr/>
        </p:nvSpPr>
        <p:spPr>
          <a:xfrm flipV="1">
            <a:off x="1619280" y="4545000"/>
            <a:ext cx="1044720" cy="104472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46"/>
          <p:cNvSpPr/>
          <p:nvPr/>
        </p:nvSpPr>
        <p:spPr>
          <a:xfrm flipV="1">
            <a:off x="2664000" y="4544640"/>
            <a:ext cx="2195280" cy="3636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50"/>
          <p:cNvSpPr/>
          <p:nvPr/>
        </p:nvSpPr>
        <p:spPr>
          <a:xfrm flipV="1">
            <a:off x="3780000" y="4508280"/>
            <a:ext cx="1079280" cy="1081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51"/>
          <p:cNvSpPr/>
          <p:nvPr/>
        </p:nvSpPr>
        <p:spPr>
          <a:xfrm flipV="1">
            <a:off x="1619280" y="5589360"/>
            <a:ext cx="2160720" cy="34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52"/>
          <p:cNvSpPr/>
          <p:nvPr/>
        </p:nvSpPr>
        <p:spPr>
          <a:xfrm>
            <a:off x="1584360" y="3465360"/>
            <a:ext cx="0" cy="2195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53"/>
          <p:cNvSpPr/>
          <p:nvPr/>
        </p:nvSpPr>
        <p:spPr>
          <a:xfrm>
            <a:off x="2664000" y="2313000"/>
            <a:ext cx="0" cy="230328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4"/>
          <p:cNvSpPr/>
          <p:nvPr/>
        </p:nvSpPr>
        <p:spPr>
          <a:xfrm>
            <a:off x="3780000" y="3465360"/>
            <a:ext cx="0" cy="212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56"/>
          <p:cNvSpPr/>
          <p:nvPr/>
        </p:nvSpPr>
        <p:spPr>
          <a:xfrm>
            <a:off x="6409800" y="33926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ff"/>
                </a:solidFill>
                <a:latin typeface="Arial"/>
              </a:rPr>
              <a:t>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19"/>
          <p:cNvSpPr/>
          <p:nvPr/>
        </p:nvSpPr>
        <p:spPr>
          <a:xfrm>
            <a:off x="2556000" y="227664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55"/>
          <p:cNvSpPr/>
          <p:nvPr/>
        </p:nvSpPr>
        <p:spPr>
          <a:xfrm>
            <a:off x="4824360" y="2349360"/>
            <a:ext cx="0" cy="2195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41"/>
          <p:cNvSpPr/>
          <p:nvPr/>
        </p:nvSpPr>
        <p:spPr>
          <a:xfrm flipV="1">
            <a:off x="3780000" y="2349360"/>
            <a:ext cx="1079280" cy="11160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28"/>
          <p:cNvSpPr/>
          <p:nvPr/>
        </p:nvSpPr>
        <p:spPr>
          <a:xfrm>
            <a:off x="4680000" y="227664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27"/>
          <p:cNvSpPr/>
          <p:nvPr/>
        </p:nvSpPr>
        <p:spPr>
          <a:xfrm>
            <a:off x="1511280" y="3357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9"/>
          <p:cNvSpPr/>
          <p:nvPr/>
        </p:nvSpPr>
        <p:spPr>
          <a:xfrm>
            <a:off x="3672000" y="3357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6"/>
          <p:cNvSpPr/>
          <p:nvPr/>
        </p:nvSpPr>
        <p:spPr>
          <a:xfrm>
            <a:off x="2556000" y="4437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25"/>
          <p:cNvSpPr/>
          <p:nvPr/>
        </p:nvSpPr>
        <p:spPr>
          <a:xfrm>
            <a:off x="4716360" y="4437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30"/>
          <p:cNvSpPr/>
          <p:nvPr/>
        </p:nvSpPr>
        <p:spPr>
          <a:xfrm>
            <a:off x="3672000" y="5481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24"/>
          <p:cNvSpPr/>
          <p:nvPr/>
        </p:nvSpPr>
        <p:spPr>
          <a:xfrm>
            <a:off x="1511280" y="5481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58" descr="j0236249"/>
          <p:cNvPicPr/>
          <p:nvPr/>
        </p:nvPicPr>
        <p:blipFill>
          <a:blip r:embed="rId1"/>
          <a:stretch/>
        </p:blipFill>
        <p:spPr>
          <a:xfrm flipH="1">
            <a:off x="539280" y="1052640"/>
            <a:ext cx="7621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66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56" name="Object 9"/>
          <p:cNvGraphicFramePr/>
          <p:nvPr/>
        </p:nvGraphicFramePr>
        <p:xfrm>
          <a:off x="2016000" y="3105000"/>
          <a:ext cx="403704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3105000"/>
                    <a:ext cx="40370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0"/>
          <p:cNvGraphicFramePr/>
          <p:nvPr/>
        </p:nvGraphicFramePr>
        <p:xfrm>
          <a:off x="3359160" y="1973160"/>
          <a:ext cx="13572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9160" y="1973160"/>
                    <a:ext cx="13572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7"/>
          <p:cNvSpPr/>
          <p:nvPr/>
        </p:nvSpPr>
        <p:spPr>
          <a:xfrm>
            <a:off x="468360" y="1376280"/>
            <a:ext cx="82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Object 12"/>
          <p:cNvGraphicFramePr/>
          <p:nvPr/>
        </p:nvGraphicFramePr>
        <p:xfrm>
          <a:off x="3359160" y="4686480"/>
          <a:ext cx="135720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9160" y="4686480"/>
                    <a:ext cx="1357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4"/>
          <p:cNvSpPr/>
          <p:nvPr/>
        </p:nvSpPr>
        <p:spPr>
          <a:xfrm>
            <a:off x="4932360" y="540864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prisma penta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5" descr="j0236249"/>
          <p:cNvPicPr/>
          <p:nvPr/>
        </p:nvPicPr>
        <p:blipFill>
          <a:blip r:embed="rId7"/>
          <a:stretch/>
        </p:blipFill>
        <p:spPr>
          <a:xfrm>
            <a:off x="8101080" y="1268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j0236249"/>
          <p:cNvPicPr/>
          <p:nvPr/>
        </p:nvPicPr>
        <p:blipFill>
          <a:blip r:embed="rId8"/>
          <a:stretch/>
        </p:blipFill>
        <p:spPr>
          <a:xfrm>
            <a:off x="7128000" y="72864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7" descr="j0236249"/>
          <p:cNvPicPr/>
          <p:nvPr/>
        </p:nvPicPr>
        <p:blipFill>
          <a:blip r:embed="rId9"/>
          <a:stretch/>
        </p:blipFill>
        <p:spPr>
          <a:xfrm>
            <a:off x="8101080" y="18900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7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Object 6"/>
          <p:cNvGraphicFramePr/>
          <p:nvPr/>
        </p:nvGraphicFramePr>
        <p:xfrm>
          <a:off x="792000" y="2565360"/>
          <a:ext cx="35164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565360"/>
                    <a:ext cx="3516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8"/>
          <p:cNvGraphicFramePr/>
          <p:nvPr/>
        </p:nvGraphicFramePr>
        <p:xfrm>
          <a:off x="2087640" y="4689360"/>
          <a:ext cx="1333440" cy="8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7640" y="4689360"/>
                    <a:ext cx="13334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0"/>
          <p:cNvSpPr/>
          <p:nvPr/>
        </p:nvSpPr>
        <p:spPr>
          <a:xfrm>
            <a:off x="4788000" y="3500280"/>
            <a:ext cx="41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 pirâmide hexa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11" descr="j0236249"/>
          <p:cNvPicPr/>
          <p:nvPr/>
        </p:nvPicPr>
        <p:blipFill>
          <a:blip r:embed="rId5"/>
          <a:stretch/>
        </p:blipFill>
        <p:spPr>
          <a:xfrm>
            <a:off x="5543640" y="152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j0236249"/>
          <p:cNvPicPr/>
          <p:nvPr/>
        </p:nvPicPr>
        <p:blipFill>
          <a:blip r:embed="rId6"/>
          <a:stretch/>
        </p:blipFill>
        <p:spPr>
          <a:xfrm>
            <a:off x="7380360" y="44136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1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68360" y="1376280"/>
            <a:ext cx="82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971640" y="3357720"/>
            <a:ext cx="3492360" cy="1439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368360" y="2205000"/>
            <a:ext cx="1149480" cy="114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2735280" y="4797360"/>
            <a:ext cx="1149480" cy="114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6084720" y="368136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ilind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2" descr="j0236249"/>
          <p:cNvPicPr/>
          <p:nvPr/>
        </p:nvPicPr>
        <p:blipFill>
          <a:blip r:embed="rId1"/>
          <a:stretch/>
        </p:blipFill>
        <p:spPr>
          <a:xfrm>
            <a:off x="5940360" y="2276640"/>
            <a:ext cx="151776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1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99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2519280" y="2781360"/>
          <a:ext cx="18385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2781360"/>
                    <a:ext cx="18385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7"/>
          <p:cNvGraphicFramePr/>
          <p:nvPr/>
        </p:nvGraphicFramePr>
        <p:xfrm>
          <a:off x="2664000" y="4186080"/>
          <a:ext cx="8632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4000" y="4186080"/>
                    <a:ext cx="8632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9"/>
          <p:cNvSpPr/>
          <p:nvPr/>
        </p:nvSpPr>
        <p:spPr>
          <a:xfrm>
            <a:off x="6175440" y="3610080"/>
            <a:ext cx="1731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10" descr="j0236249"/>
          <p:cNvPicPr/>
          <p:nvPr/>
        </p:nvPicPr>
        <p:blipFill>
          <a:blip r:embed="rId5"/>
          <a:stretch/>
        </p:blipFill>
        <p:spPr>
          <a:xfrm flipH="1">
            <a:off x="611280" y="549360"/>
            <a:ext cx="1116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171360" y="1600200"/>
          <a:ext cx="8972640" cy="5257800"/>
        </p:xfrm>
        <a:graphic>
          <a:graphicData uri="http://schemas.openxmlformats.org/drawingml/2006/table">
            <a:tbl>
              <a:tblPr/>
              <a:tblGrid>
                <a:gridCol w="2676600"/>
                <a:gridCol w="2470320"/>
                <a:gridCol w="38257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gonos das faces do sólido geomét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47"/>
          <p:cNvSpPr/>
          <p:nvPr/>
        </p:nvSpPr>
        <p:spPr>
          <a:xfrm>
            <a:off x="32400" y="247680"/>
            <a:ext cx="86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geométricos 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64"/>
          <p:cNvSpPr/>
          <p:nvPr/>
        </p:nvSpPr>
        <p:spPr>
          <a:xfrm>
            <a:off x="863640" y="2744640"/>
            <a:ext cx="822240" cy="82260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65"/>
          <p:cNvSpPr/>
          <p:nvPr/>
        </p:nvSpPr>
        <p:spPr>
          <a:xfrm>
            <a:off x="6012000" y="2708280"/>
            <a:ext cx="59976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68"/>
          <p:cNvSpPr/>
          <p:nvPr/>
        </p:nvSpPr>
        <p:spPr>
          <a:xfrm>
            <a:off x="6012000" y="3429000"/>
            <a:ext cx="59976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9"/>
          <p:cNvSpPr/>
          <p:nvPr/>
        </p:nvSpPr>
        <p:spPr>
          <a:xfrm>
            <a:off x="7020000" y="342900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0"/>
          <p:cNvSpPr/>
          <p:nvPr/>
        </p:nvSpPr>
        <p:spPr>
          <a:xfrm>
            <a:off x="7920000" y="342900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1"/>
          <p:cNvSpPr/>
          <p:nvPr/>
        </p:nvSpPr>
        <p:spPr>
          <a:xfrm>
            <a:off x="7020000" y="274464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2"/>
          <p:cNvSpPr/>
          <p:nvPr/>
        </p:nvSpPr>
        <p:spPr>
          <a:xfrm>
            <a:off x="7885080" y="274464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4"/>
          <p:cNvSpPr/>
          <p:nvPr/>
        </p:nvSpPr>
        <p:spPr>
          <a:xfrm>
            <a:off x="719280" y="5229360"/>
            <a:ext cx="1398600" cy="7920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75"/>
          <p:cNvSpPr/>
          <p:nvPr/>
        </p:nvSpPr>
        <p:spPr>
          <a:xfrm>
            <a:off x="5364000" y="5445000"/>
            <a:ext cx="600120" cy="600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6"/>
          <p:cNvSpPr/>
          <p:nvPr/>
        </p:nvSpPr>
        <p:spPr>
          <a:xfrm>
            <a:off x="5364000" y="4797360"/>
            <a:ext cx="600120" cy="600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6119640" y="4834080"/>
            <a:ext cx="11527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81"/>
          <p:cNvSpPr/>
          <p:nvPr/>
        </p:nvSpPr>
        <p:spPr>
          <a:xfrm>
            <a:off x="6119640" y="5445000"/>
            <a:ext cx="1152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82"/>
          <p:cNvSpPr/>
          <p:nvPr/>
        </p:nvSpPr>
        <p:spPr>
          <a:xfrm>
            <a:off x="7416720" y="5516640"/>
            <a:ext cx="1152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3"/>
          <p:cNvSpPr/>
          <p:nvPr/>
        </p:nvSpPr>
        <p:spPr>
          <a:xfrm>
            <a:off x="7416720" y="4869000"/>
            <a:ext cx="11527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86"/>
          <p:cNvSpPr/>
          <p:nvPr/>
        </p:nvSpPr>
        <p:spPr>
          <a:xfrm>
            <a:off x="3276720" y="2852640"/>
            <a:ext cx="15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u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93"/>
          <p:cNvSpPr/>
          <p:nvPr/>
        </p:nvSpPr>
        <p:spPr>
          <a:xfrm>
            <a:off x="2951280" y="5157720"/>
            <a:ext cx="23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ffffff"/>
                </a:solidFill>
                <a:latin typeface="Arial"/>
              </a:rPr>
              <a:t>Prisma quadrangul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07"/>
          <p:cNvSpPr/>
          <p:nvPr/>
        </p:nvSpPr>
        <p:spPr>
          <a:xfrm>
            <a:off x="5435640" y="4149720"/>
            <a:ext cx="3419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6 quadr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8"/>
          <p:cNvSpPr/>
          <p:nvPr/>
        </p:nvSpPr>
        <p:spPr>
          <a:xfrm>
            <a:off x="5292720" y="6058080"/>
            <a:ext cx="36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Arial"/>
              </a:rPr>
              <a:t>2 quadrados 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Arial"/>
              </a:rPr>
              <a:t>4 rectâng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1197000"/>
          <a:ext cx="8677080" cy="5437080"/>
        </p:xfrm>
        <a:graphic>
          <a:graphicData uri="http://schemas.openxmlformats.org/drawingml/2006/table">
            <a:tbl>
              <a:tblPr/>
              <a:tblGrid>
                <a:gridCol w="2289240"/>
                <a:gridCol w="2895480"/>
                <a:gridCol w="3492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gonos das faces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Object 61"/>
          <p:cNvGraphicFramePr/>
          <p:nvPr/>
        </p:nvGraphicFramePr>
        <p:xfrm>
          <a:off x="431640" y="2529000"/>
          <a:ext cx="181008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529000"/>
                    <a:ext cx="18100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6"/>
          <p:cNvGraphicFramePr/>
          <p:nvPr/>
        </p:nvGraphicFramePr>
        <p:xfrm>
          <a:off x="792000" y="4113360"/>
          <a:ext cx="10432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4113360"/>
                    <a:ext cx="10432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56"/>
          <p:cNvSpPr/>
          <p:nvPr/>
        </p:nvSpPr>
        <p:spPr>
          <a:xfrm>
            <a:off x="2879640" y="2529000"/>
            <a:ext cx="2232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isma tria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9"/>
          <p:cNvSpPr/>
          <p:nvPr/>
        </p:nvSpPr>
        <p:spPr>
          <a:xfrm>
            <a:off x="5616720" y="213372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0"/>
          <p:cNvSpPr/>
          <p:nvPr/>
        </p:nvSpPr>
        <p:spPr>
          <a:xfrm>
            <a:off x="7272360" y="213372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1"/>
          <p:cNvSpPr/>
          <p:nvPr/>
        </p:nvSpPr>
        <p:spPr>
          <a:xfrm>
            <a:off x="5616720" y="278136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72"/>
          <p:cNvSpPr/>
          <p:nvPr/>
        </p:nvSpPr>
        <p:spPr>
          <a:xfrm>
            <a:off x="7993080" y="2744640"/>
            <a:ext cx="755640" cy="5400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75"/>
          <p:cNvSpPr/>
          <p:nvPr/>
        </p:nvSpPr>
        <p:spPr>
          <a:xfrm>
            <a:off x="7056360" y="2816280"/>
            <a:ext cx="755640" cy="53964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Object 85"/>
          <p:cNvGraphicFramePr/>
          <p:nvPr/>
        </p:nvGraphicFramePr>
        <p:xfrm>
          <a:off x="8244000" y="4365720"/>
          <a:ext cx="57600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Object 8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365720"/>
                    <a:ext cx="5760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1"/>
          <p:cNvGraphicFramePr/>
          <p:nvPr/>
        </p:nvGraphicFramePr>
        <p:xfrm>
          <a:off x="5543640" y="4221000"/>
          <a:ext cx="83952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6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4221000"/>
                    <a:ext cx="839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94"/>
          <p:cNvGraphicFramePr/>
          <p:nvPr/>
        </p:nvGraphicFramePr>
        <p:xfrm>
          <a:off x="6443640" y="4257720"/>
          <a:ext cx="839880" cy="13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4257720"/>
                    <a:ext cx="8398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95"/>
          <p:cNvGraphicFramePr/>
          <p:nvPr/>
        </p:nvGraphicFramePr>
        <p:xfrm>
          <a:off x="7308720" y="4221000"/>
          <a:ext cx="839880" cy="139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4221000"/>
                    <a:ext cx="8398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6"/>
          <p:cNvSpPr/>
          <p:nvPr/>
        </p:nvSpPr>
        <p:spPr>
          <a:xfrm>
            <a:off x="2916360" y="4545000"/>
            <a:ext cx="2232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irâ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ria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99"/>
          <p:cNvSpPr/>
          <p:nvPr/>
        </p:nvSpPr>
        <p:spPr>
          <a:xfrm>
            <a:off x="5543640" y="3321000"/>
            <a:ext cx="320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3 rectângulos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2 triâng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00"/>
          <p:cNvSpPr/>
          <p:nvPr/>
        </p:nvSpPr>
        <p:spPr>
          <a:xfrm>
            <a:off x="5543640" y="5734080"/>
            <a:ext cx="32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4 triângulos, sendo um deles a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152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250920" y="1268280"/>
          <a:ext cx="8254800" cy="4694400"/>
        </p:xfrm>
        <a:graphic>
          <a:graphicData uri="http://schemas.openxmlformats.org/drawingml/2006/table">
            <a:tbl>
              <a:tblPr/>
              <a:tblGrid>
                <a:gridCol w="2665440"/>
                <a:gridCol w="2376360"/>
                <a:gridCol w="3213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gura geométrica das bases 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AutoShape 55"/>
          <p:cNvSpPr/>
          <p:nvPr/>
        </p:nvSpPr>
        <p:spPr>
          <a:xfrm>
            <a:off x="1079640" y="2241720"/>
            <a:ext cx="863640" cy="1368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Object 56"/>
          <p:cNvGraphicFramePr/>
          <p:nvPr/>
        </p:nvGraphicFramePr>
        <p:xfrm>
          <a:off x="1116000" y="3968640"/>
          <a:ext cx="96840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968640"/>
                    <a:ext cx="96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64"/>
          <p:cNvSpPr/>
          <p:nvPr/>
        </p:nvSpPr>
        <p:spPr>
          <a:xfrm>
            <a:off x="3348000" y="2529000"/>
            <a:ext cx="1731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5"/>
          <p:cNvSpPr/>
          <p:nvPr/>
        </p:nvSpPr>
        <p:spPr>
          <a:xfrm>
            <a:off x="3492360" y="4437000"/>
            <a:ext cx="173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5651640" y="2168640"/>
            <a:ext cx="866520" cy="86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056360" y="2205000"/>
            <a:ext cx="866880" cy="86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6227640" y="3824280"/>
            <a:ext cx="866880" cy="866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9"/>
          <p:cNvSpPr/>
          <p:nvPr/>
        </p:nvSpPr>
        <p:spPr>
          <a:xfrm>
            <a:off x="5400720" y="3105000"/>
            <a:ext cx="29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2 círculos (2 b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1"/>
          <p:cNvSpPr/>
          <p:nvPr/>
        </p:nvSpPr>
        <p:spPr>
          <a:xfrm>
            <a:off x="5435640" y="5084640"/>
            <a:ext cx="29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1 círculo (1 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9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508720" y="3789360"/>
            <a:ext cx="223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12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185840" y="1627200"/>
            <a:ext cx="2162160" cy="21621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580000" y="20606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580000" y="292428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8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4365720"/>
            <a:ext cx="38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lá, eu sou o cu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39640" y="549360"/>
            <a:ext cx="813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faces, vértices e arestas tenho e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9" descr="j0236249"/>
          <p:cNvPicPr/>
          <p:nvPr/>
        </p:nvPicPr>
        <p:blipFill>
          <a:blip r:embed="rId1"/>
          <a:stretch/>
        </p:blipFill>
        <p:spPr>
          <a:xfrm>
            <a:off x="7920000" y="1341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j0236249"/>
          <p:cNvPicPr/>
          <p:nvPr/>
        </p:nvPicPr>
        <p:blipFill>
          <a:blip r:embed="rId2"/>
          <a:stretch/>
        </p:blipFill>
        <p:spPr>
          <a:xfrm flipH="1">
            <a:off x="178920" y="220500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eu quem sou, sabendo que as minhas bases são quadr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87280" y="1125360"/>
            <a:ext cx="1584360" cy="2664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933720"/>
            <a:ext cx="63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ou o Prisma quadr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419640" y="1700280"/>
            <a:ext cx="5182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as há quem me cha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lelepípe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dr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211640" y="2997360"/>
            <a:ext cx="47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643280" y="4581360"/>
            <a:ext cx="432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716360" y="530064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1" descr="j0236249"/>
          <p:cNvPicPr/>
          <p:nvPr/>
        </p:nvPicPr>
        <p:blipFill>
          <a:blip r:embed="rId1"/>
          <a:stretch/>
        </p:blipFill>
        <p:spPr>
          <a:xfrm flipH="1">
            <a:off x="3816000" y="981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j0236249"/>
          <p:cNvPicPr/>
          <p:nvPr/>
        </p:nvPicPr>
        <p:blipFill>
          <a:blip r:embed="rId2"/>
          <a:stretch/>
        </p:blipFill>
        <p:spPr>
          <a:xfrm flipH="1">
            <a:off x="5256000" y="728640"/>
            <a:ext cx="610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755640" y="1989000"/>
            <a:ext cx="1584360" cy="266400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1280" y="610200"/>
            <a:ext cx="7952760" cy="831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99"/>
                </a:solidFill>
                <a:latin typeface="Arial"/>
              </a:rPr>
              <a:t>Quantas faces, vértices e arestas tenho e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1280" y="198900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4500720" y="4292640"/>
            <a:ext cx="237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12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867280" y="3068640"/>
            <a:ext cx="22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8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0" descr="j0236249"/>
          <p:cNvPicPr/>
          <p:nvPr/>
        </p:nvPicPr>
        <p:blipFill>
          <a:blip r:embed="rId1"/>
          <a:stretch/>
        </p:blipFill>
        <p:spPr>
          <a:xfrm flipH="1">
            <a:off x="7811640" y="504972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j0236249"/>
          <p:cNvPicPr/>
          <p:nvPr/>
        </p:nvPicPr>
        <p:blipFill>
          <a:blip r:embed="rId2"/>
          <a:stretch/>
        </p:blipFill>
        <p:spPr>
          <a:xfrm flipH="1">
            <a:off x="3887280" y="152100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j0236249"/>
          <p:cNvPicPr/>
          <p:nvPr/>
        </p:nvPicPr>
        <p:blipFill>
          <a:blip r:embed="rId3"/>
          <a:stretch/>
        </p:blipFill>
        <p:spPr>
          <a:xfrm flipH="1">
            <a:off x="5651640" y="2600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j0236249"/>
          <p:cNvPicPr/>
          <p:nvPr/>
        </p:nvPicPr>
        <p:blipFill>
          <a:blip r:embed="rId4"/>
          <a:stretch/>
        </p:blipFill>
        <p:spPr>
          <a:xfrm flipH="1">
            <a:off x="4608000" y="3860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"/>
          <p:cNvSpPr/>
          <p:nvPr/>
        </p:nvSpPr>
        <p:spPr>
          <a:xfrm>
            <a:off x="0" y="414972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lá, eu sou o prisma tri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39640" y="404640"/>
            <a:ext cx="813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faces, vértices e arestas tenho e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6372360" y="1844640"/>
            <a:ext cx="180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5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6372360" y="2924280"/>
            <a:ext cx="201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443640" y="4149720"/>
            <a:ext cx="22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9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Object 27"/>
          <p:cNvGraphicFramePr/>
          <p:nvPr/>
        </p:nvGraphicFramePr>
        <p:xfrm>
          <a:off x="2987640" y="1773360"/>
          <a:ext cx="220176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773360"/>
                    <a:ext cx="2201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8"/>
          <p:cNvGraphicFramePr/>
          <p:nvPr/>
        </p:nvGraphicFramePr>
        <p:xfrm>
          <a:off x="826920" y="1125360"/>
          <a:ext cx="1505160" cy="288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125360"/>
                    <a:ext cx="1505160" cy="28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29"/>
          <p:cNvSpPr/>
          <p:nvPr/>
        </p:nvSpPr>
        <p:spPr>
          <a:xfrm>
            <a:off x="5038560" y="530064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179280" y="5300640"/>
            <a:ext cx="432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1" descr="j0236249"/>
          <p:cNvPicPr/>
          <p:nvPr/>
        </p:nvPicPr>
        <p:blipFill>
          <a:blip r:embed="rId5"/>
          <a:stretch/>
        </p:blipFill>
        <p:spPr>
          <a:xfrm>
            <a:off x="7128000" y="1015920"/>
            <a:ext cx="1554120" cy="79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5300640"/>
            <a:ext cx="29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 eu quem s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395280" y="2205000"/>
          <a:ext cx="22496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22496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7"/>
          <p:cNvSpPr/>
          <p:nvPr/>
        </p:nvSpPr>
        <p:spPr>
          <a:xfrm>
            <a:off x="2771640" y="549360"/>
            <a:ext cx="58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hamo-me pirâmide quadrangul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916360" y="1484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rei 4 vért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987640" y="206064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ão! Tenho 5 vér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2987640" y="2708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 faces e arestas, quantas ten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2916360" y="321300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 5 faces 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987640" y="3716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8 aresta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51280" y="436572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995640" y="5084640"/>
            <a:ext cx="31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penas u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511280" y="216864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727280" y="4905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395280" y="49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079640" y="4257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2411280" y="4257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0" descr="j0236249"/>
          <p:cNvPicPr/>
          <p:nvPr/>
        </p:nvPicPr>
        <p:blipFill>
          <a:blip r:embed="rId3"/>
          <a:stretch/>
        </p:blipFill>
        <p:spPr>
          <a:xfrm>
            <a:off x="1476360" y="368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j0236249"/>
          <p:cNvPicPr/>
          <p:nvPr/>
        </p:nvPicPr>
        <p:blipFill>
          <a:blip r:embed="rId4"/>
          <a:stretch/>
        </p:blipFill>
        <p:spPr>
          <a:xfrm>
            <a:off x="179280" y="1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j0236249"/>
          <p:cNvPicPr/>
          <p:nvPr/>
        </p:nvPicPr>
        <p:blipFill>
          <a:blip r:embed="rId5"/>
          <a:stretch/>
        </p:blipFill>
        <p:spPr>
          <a:xfrm>
            <a:off x="6588000" y="152100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3" descr="j0236249"/>
          <p:cNvPicPr/>
          <p:nvPr/>
        </p:nvPicPr>
        <p:blipFill>
          <a:blip r:embed="rId6"/>
          <a:stretch/>
        </p:blipFill>
        <p:spPr>
          <a:xfrm>
            <a:off x="1511280" y="116064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4" descr="j0236249"/>
          <p:cNvPicPr/>
          <p:nvPr/>
        </p:nvPicPr>
        <p:blipFill>
          <a:blip r:embed="rId7"/>
          <a:stretch/>
        </p:blipFill>
        <p:spPr>
          <a:xfrm>
            <a:off x="684360" y="137628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843280" y="1886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nós, quem so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6948360" y="404640"/>
          <a:ext cx="188136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881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7"/>
          <p:cNvGraphicFramePr/>
          <p:nvPr/>
        </p:nvGraphicFramePr>
        <p:xfrm>
          <a:off x="611280" y="836640"/>
          <a:ext cx="1458720" cy="26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836640"/>
                    <a:ext cx="14587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0"/>
          <p:cNvSpPr/>
          <p:nvPr/>
        </p:nvSpPr>
        <p:spPr>
          <a:xfrm>
            <a:off x="7020000" y="2349360"/>
            <a:ext cx="187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 a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24000" y="364500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24000" y="422100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O c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24000" y="479736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rei vért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324000" y="5373720"/>
            <a:ext cx="374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nho apenas um vér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2268360" y="1700280"/>
            <a:ext cx="37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bases, tenho algu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2268360" y="2349360"/>
            <a:ext cx="374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nho uma base pl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7093080" y="2924280"/>
            <a:ext cx="158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f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6300720" y="3645000"/>
            <a:ext cx="266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u form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penas por 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uperfície cu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9"/>
          <p:cNvSpPr/>
          <p:nvPr/>
        </p:nvSpPr>
        <p:spPr>
          <a:xfrm rot="3282600">
            <a:off x="1906920" y="2780280"/>
            <a:ext cx="900000" cy="1476360"/>
          </a:xfrm>
          <a:custGeom>
            <a:avLst/>
            <a:gdLst>
              <a:gd name="textAreaLeft" fmla="*/ 120600 w 900000"/>
              <a:gd name="textAreaRight" fmla="*/ 779400 w 900000"/>
              <a:gd name="textAreaTop" fmla="*/ 258120 h 1476360"/>
              <a:gd name="textAreaBottom" fmla="*/ 107028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0"/>
          <p:cNvSpPr/>
          <p:nvPr/>
        </p:nvSpPr>
        <p:spPr>
          <a:xfrm>
            <a:off x="1187280" y="836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1" descr="j0236249"/>
          <p:cNvPicPr/>
          <p:nvPr/>
        </p:nvPicPr>
        <p:blipFill>
          <a:blip r:embed="rId5"/>
          <a:stretch/>
        </p:blipFill>
        <p:spPr>
          <a:xfrm>
            <a:off x="3059280" y="3176640"/>
            <a:ext cx="1676160" cy="858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j0236249"/>
          <p:cNvPicPr/>
          <p:nvPr/>
        </p:nvPicPr>
        <p:blipFill>
          <a:blip r:embed="rId6"/>
          <a:stretch/>
        </p:blipFill>
        <p:spPr>
          <a:xfrm>
            <a:off x="4572000" y="396864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3" descr="j0236249"/>
          <p:cNvPicPr/>
          <p:nvPr/>
        </p:nvPicPr>
        <p:blipFill>
          <a:blip r:embed="rId7"/>
          <a:stretch/>
        </p:blipFill>
        <p:spPr>
          <a:xfrm>
            <a:off x="5292720" y="4329000"/>
            <a:ext cx="6476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 eu, alguém sabe quem s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684360" y="1197000"/>
            <a:ext cx="1368360" cy="215892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627280" y="1197000"/>
            <a:ext cx="597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uito bem! Chamo-me cilindr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2700360" y="2133720"/>
            <a:ext cx="51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vértices e arest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84360" y="350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ão. Não tenho vértices nem ares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55640" y="429264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ou formado por superfíc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3419640" y="5157720"/>
            <a:ext cx="24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u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971640" y="5084640"/>
            <a:ext cx="24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lanas 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932360" y="558972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 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3" descr="j0236249"/>
          <p:cNvPicPr/>
          <p:nvPr/>
        </p:nvPicPr>
        <p:blipFill>
          <a:blip r:embed="rId1"/>
          <a:stretch/>
        </p:blipFill>
        <p:spPr>
          <a:xfrm>
            <a:off x="6659640" y="368280"/>
            <a:ext cx="1152360" cy="590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j0236249"/>
          <p:cNvPicPr/>
          <p:nvPr/>
        </p:nvPicPr>
        <p:blipFill>
          <a:blip r:embed="rId2"/>
          <a:stretch/>
        </p:blipFill>
        <p:spPr>
          <a:xfrm>
            <a:off x="7993080" y="728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1:26:53Z</dcterms:created>
  <dc:creator>zulmira</dc:creator>
  <dc:description/>
  <dc:language>en-US</dc:language>
  <cp:lastModifiedBy>Claudemir</cp:lastModifiedBy>
  <dcterms:modified xsi:type="dcterms:W3CDTF">2015-07-30T12:56:38Z</dcterms:modified>
  <cp:revision>64</cp:revision>
  <dc:subject/>
  <dc:title>Os sólidos geométricos</dc:title>
</cp:coreProperties>
</file>